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0FBE6-AF5C-49ED-B6B0-AFE49B9CEA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71125-10B6-4F40-8D27-8AE391216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C81A3-8536-4AA4-93FB-A71CC99E5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0B7E4-A325-41F9-83FA-46213803B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2C4BE-6008-4BDA-91F8-7E0627AFB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482A7-4BA3-4266-9242-35C4A5410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4E616-399F-4F8E-929B-2AA9E1A71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E8695-8656-4AB7-A1FE-970E04F86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C6D58-FE08-47A2-9FAC-DE0653150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FAED4-AA5F-4172-A392-8C94637AF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13C61-A879-496E-8593-E2B1B40DD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C2F87-88E7-4A65-9BA8-75F614927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142FE-6FB3-45B0-B1B1-CF29E9839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C79D1-FBD9-4DE7-817B-3345D62D4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F2F79-BB80-4BCB-8180-307E056AE9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3E55F-1461-4C43-BBF6-AB01F2C626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EAAF0-ACC7-4F8D-AD18-1B8DCF22A2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5F45B-24C5-4FD4-875F-96D597DE5B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D8E2-FD46-46B6-BA9A-90321BDAD4A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B3A3-AD3A-49A3-8521-9DC4F32F209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6A84-3D64-473E-8C9D-6CA73C4EAB7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916E-6514-4B41-B6A4-48A4F20A088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F8E6-0868-492E-BC98-6F5795CBBFF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53C9-9C7C-49F0-A1F7-0A550E4D886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2D14-079C-4BF5-B553-669B7B9693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E7C9D-9719-4964-B453-A811C5A517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A5D6-AC82-40BC-B055-30DD8E632E7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8D8D-70C7-4A55-A7B2-0819DEFD8A7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2389-982D-420A-B42F-54CCE1C87FF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215D-923F-4BB3-8FAD-3B3780F1E7A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20F6-F124-417F-ABA4-85EDFB749C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3077D-B1D8-4DC9-BEAB-BCE59A208C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07E08-EDED-49BB-B8E8-4EA384AC94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980F2-DE0D-40BF-A1CB-F500BA44A6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7AB86-A6FD-4623-8BE1-5F26B68659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CC630-AB86-46D2-848F-5E03EA46C6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2503C-C864-466A-AE38-1E9744FC78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83EB0-45D4-429A-95E2-B9EED5A7E6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47560" y="6400080"/>
            <a:ext cx="51055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37524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7884A-0A0F-477F-A3AB-0A0A6B40F6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9F248-57C0-4008-A5E3-16F19535E7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3FE19-E3F6-438D-990C-5D43C8874C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24080" y="1668240"/>
            <a:ext cx="5181840" cy="25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  <a:ea typeface="Verdana"/>
              </a:rPr>
              <a:t>Организация программы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Verdana"/>
                <a:ea typeface="Verdana"/>
              </a:rPr>
              <a:t>внешней оценки качества (ВОК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3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8A3C9-97F0-4781-8F4A-22D7B24CD5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09120" y="2133360"/>
            <a:ext cx="8077320" cy="35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направленность пр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цели и за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правила конфиденциа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благодарности, признание вкла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контактная информ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календарный граф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457200" y="789120"/>
            <a:ext cx="82296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SimSun"/>
              </a:rPr>
              <a:t>Обмен информаци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4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5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8B3D-EF2D-49D5-8665-D2F7FFAC7A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SimSun"/>
              </a:rPr>
              <a:t>Отслежи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077320" cy="31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комментариев, отзывов на отч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роли «арбитра» организатора В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замечаний и рекомендаций от участвующих лаборатор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наилучших путей решения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наилучших способов для рекомендации определенных мет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MCj01572990000[1]"/>
          <p:cNvPicPr/>
          <p:nvPr/>
        </p:nvPicPr>
        <p:blipFill>
          <a:blip r:embed="rId1"/>
          <a:stretch/>
        </p:blipFill>
        <p:spPr>
          <a:xfrm>
            <a:off x="990720" y="4287960"/>
            <a:ext cx="2514600" cy="188424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8"/>
          <p:cNvSpPr/>
          <p:nvPr/>
        </p:nvSpPr>
        <p:spPr>
          <a:xfrm>
            <a:off x="3505320" y="4495680"/>
            <a:ext cx="5105160" cy="1447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  <a:ea typeface="SimSun"/>
              </a:rPr>
              <a:t>Отлично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  <a:ea typeface="SimSun"/>
              </a:rPr>
              <a:t>!</a:t>
            </a:r>
            <a:r>
              <a:rPr b="1" lang="ru-RU" sz="2800" spc="-1" strike="noStrike">
                <a:solidFill>
                  <a:srgbClr val="00007d"/>
                </a:solidFill>
                <a:latin typeface="Verdana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  <a:ea typeface="SimSun"/>
              </a:rPr>
              <a:t>Так и должно бы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3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9F037-918C-48C9-83CD-8A0396D28E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участвовать в международной В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привлеките вышестоящие орг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начните с прост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начните с мал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начните с неинфекционных материа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перед началом проведите испы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начните с хорошим планом по взаимодействию и обмену информац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будьте очень внимательны к комментариям и отзыв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Verdana"/>
                <a:ea typeface="SimSun"/>
              </a:rPr>
              <a:t>Запуск программы ВОК для всей стр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SimSun"/>
              </a:rPr>
              <a:t>Выв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2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2D20B-CC30-4DAD-9319-F1C197B57D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41440" y="1209240"/>
            <a:ext cx="402588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Verdan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172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87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88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89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1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2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94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97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198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203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208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212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215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221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224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227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9" name="Footer Placeholder 1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3"/>
          <p:cNvSpPr/>
          <p:nvPr/>
        </p:nvSpPr>
        <p:spPr>
          <a:xfrm>
            <a:off x="533520" y="6276600"/>
            <a:ext cx="510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2461B-A03A-437D-A0E2-C6DAFD39E7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Типы В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38188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циональная программа проверки компетент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еть лабораторий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жлабораторные сравнения, перепрове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ценка на м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533520" y="6429240"/>
            <a:ext cx="510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64AF-7EA5-4760-AED9-00451775E0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8458200" cy="25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SimSun"/>
              </a:rPr>
              <a:t>Для организатора ВОК необходимо предшествующее (успешное!) участие в программе В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2971440"/>
            <a:ext cx="82296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SimSun"/>
              </a:rPr>
              <a:t>участие в международной программ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 (для организатора национальной программ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524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отслеживание качества в своей лабора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524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необходимо и обязате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524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вопрос об уверенности в своих сил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526CA-D640-4C5D-9296-C8941E63F1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4928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SimSun"/>
              </a:rPr>
              <a:t>Привлеките вышестоящие орг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71320" y="1828800"/>
            <a:ext cx="834372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входит в сферу их полномоч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обеспечи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66"/>
                </a:solidFill>
                <a:latin typeface="Verdana"/>
                <a:ea typeface="SimSun"/>
              </a:rPr>
              <a:t>долгосрочнос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средства и способы обмена информацие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связь с органами по лицензированию, сертификации, аккредита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финансирование 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SimSun"/>
              </a:rPr>
              <a:t>(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мероприяти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ВОК приводят к экономи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средств, финансировани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их оправдано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MCj01570510000[1]"/>
          <p:cNvPicPr/>
          <p:nvPr/>
        </p:nvPicPr>
        <p:blipFill>
          <a:blip r:embed="rId1"/>
          <a:stretch/>
        </p:blipFill>
        <p:spPr>
          <a:xfrm>
            <a:off x="6858000" y="4343400"/>
            <a:ext cx="213372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C7C8C-2917-4E88-AE8C-E2EFB3ABC5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SimSun"/>
              </a:rPr>
              <a:t>Начните с прост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3059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Проверка компетен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предметные стекл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окрашенные или неокраш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окраска по Гра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окраска на КУ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парази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идентификация бактериальных штамм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кишечных микроорганизмов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Перепрове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предметные стекла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КУБ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Грам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СМЖ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другие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бактериальные штаммы, если имеются материальные и технические возможности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коллекция штамм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frottis"/>
          <p:cNvPicPr/>
          <p:nvPr/>
        </p:nvPicPr>
        <p:blipFill>
          <a:blip r:embed="rId1"/>
          <a:stretch/>
        </p:blipFill>
        <p:spPr>
          <a:xfrm>
            <a:off x="5943600" y="22716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0" name="AutoShape 6"/>
          <p:cNvSpPr/>
          <p:nvPr/>
        </p:nvSpPr>
        <p:spPr>
          <a:xfrm>
            <a:off x="4267080" y="2438280"/>
            <a:ext cx="1600200" cy="45720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4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3B205-7268-4E8E-A355-0AC15A55B0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609588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SimSun"/>
              </a:rPr>
              <a:t>Начните с мал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792468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небольшое число лаборатор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регион для испы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проверьте вариан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транспортир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лаборатории на анали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(еще не участвующие в программ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первая проверка на простых задачах (предметные стекл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макс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лабораторий в течение 1-го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макс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пробы в одной рассылке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не реже 2 раз в год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j0278576"/>
          <p:cNvPicPr/>
          <p:nvPr/>
        </p:nvPicPr>
        <p:blipFill>
          <a:blip r:embed="rId1"/>
          <a:stretch/>
        </p:blipFill>
        <p:spPr>
          <a:xfrm>
            <a:off x="6477120" y="1447920"/>
            <a:ext cx="2151000" cy="259056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8"/>
          <p:cNvSpPr/>
          <p:nvPr/>
        </p:nvSpPr>
        <p:spPr>
          <a:xfrm rot="19759200">
            <a:off x="6934320" y="19810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4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C269D-1031-4598-897C-B43E195C63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SimSun"/>
              </a:rPr>
              <a:t>Начните с неинфекцион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47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в начале избегайте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«особо опасных»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патоге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инфекционных сыворо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выполняйте национальные правила по транспортиров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nhls1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856DA-0D7B-47F4-BEF2-677C1092FA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382320"/>
            <a:ext cx="624816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SimSun"/>
              </a:rPr>
              <a:t>Требующаяся инфраструк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2076120"/>
            <a:ext cx="426708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рабочий ст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небольшая лаборато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редства связ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nhls2"/>
          <p:cNvPicPr/>
          <p:nvPr/>
        </p:nvPicPr>
        <p:blipFill>
          <a:blip r:embed="rId1"/>
          <a:stretch/>
        </p:blipFill>
        <p:spPr>
          <a:xfrm>
            <a:off x="5105520" y="2131920"/>
            <a:ext cx="3352680" cy="25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4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5B009-901B-4E73-BBC9-5275C4C77E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89120"/>
            <a:ext cx="82296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SimSun"/>
              </a:rPr>
              <a:t>Обмен информацией с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91320" cy="38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участвующими лаборатор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вышестоящими орган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научными сообществ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рофессиональными ассоциац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любыми другими сторонами, заинтересованными в 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j0283214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6"/>
          <p:cNvSpPr/>
          <p:nvPr/>
        </p:nvSpPr>
        <p:spPr>
          <a:xfrm>
            <a:off x="6781680" y="25858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«ВО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Olga</cp:lastModifiedBy>
  <dcterms:modified xsi:type="dcterms:W3CDTF">2013-05-15T13:57:15Z</dcterms:modified>
  <cp:revision>52</cp:revision>
  <dc:subject/>
  <dc:title>EQA scheme Organization optional</dc:title>
</cp:coreProperties>
</file>